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077-DD95-4815-9B87-A3F6C7DB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BDC-AF4E-415D-96B8-D900C221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2B5-4DD0-4AD5-A521-55740CF7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A7D-B072-4021-AE5C-2D5E8F91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530-CE8D-4B44-9F45-B34A22C2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85B-9919-422F-9F2A-4B3D372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1A9-4545-4F95-B26E-B971915F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E6E-2B69-48FA-92E9-AF03A7F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5E6-36BB-4336-8FFF-82E3BA7F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C5E-7423-4C79-8238-FAD3B86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10A-FA11-4693-9927-C70CE222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40B-A56F-4D5D-84AE-8F7A755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C9C-B4D7-4095-A1E2-751A9B90C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pirback.com/tapirgal/gifts/friends/birds/penguin-galapagos-plastic-f1528.jpg" TargetMode="External"/><Relationship Id="rId2" Type="http://schemas.openxmlformats.org/officeDocument/2006/relationships/hyperlink" Target="http://mascarafamily.com/hanfan/Pictures%20for%20Rich/Homeless%20Man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obo and the Pen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iley and 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696080" y="4648320"/>
            <a:ext cx="1563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26708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380880"/>
            <a:ext cx="3124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a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197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afternoon sn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248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18737400">
            <a:off x="5583240" y="329688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019760" cy="249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1240" y="-360"/>
            <a:ext cx="4572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o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smelled so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 sm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rotten su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apirback.com/tapirgal/gifts/friends/birds/penguin-galapagos-plastic-f1528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scarafamily.com/hanfan/Pictures%20for%20Rich/Homeless%20Man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runton.com/images/catalog/duffel_bag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blog.lib.umn.edu/stau0156/architecture/garbage%20can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shanalogic.com/item_images/149_sushi_salmcalif_full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55:46Z</dcterms:created>
  <dc:creator>lex.little</dc:creator>
  <dc:description/>
  <dc:language>en-US</dc:language>
  <cp:lastModifiedBy>cyndi.vander_ven</cp:lastModifiedBy>
  <dcterms:modified xsi:type="dcterms:W3CDTF">2009-04-17T12:53:27Z</dcterms:modified>
  <cp:revision>5</cp:revision>
  <dc:subject/>
  <dc:title>The Hobo and the Penguin</dc:title>
</cp:coreProperties>
</file>